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C2B0-0230-4533-A72B-55C838E1D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138E-8D80-4B36-8509-03A3B762A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CB6C-26F4-4BDD-83BD-66D3EAD2B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5F2B-4B06-4C35-B99F-EB377340F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747D5-2FF5-4D2E-95A8-F68A28C0B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F5A5D-E942-4F1F-89CE-3708F7FF1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EDF7F-B215-4759-860E-9324A20EA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A3F4B-4684-4237-914D-FF6FC7501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D822D-815A-4353-A189-73DA8C929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CD904-9521-4C2E-8182-CA0F93AC5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33C06-7633-4BB0-ABA8-360FFBD12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53EA-12B2-4DCB-B481-191FEA5A0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5112E-BDE7-4558-8875-7637D8982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9B360-133F-4C51-B992-54DE2C0EC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2936B-7AA0-4D07-898B-6E23E1A67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B335C-02C7-4C90-BAAA-8E0B65EF5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21DFA-E47A-47BC-ACF9-0D1261BED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C7E93F-4E81-48B5-AF59-0E6B99533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88F0E8-AC18-460D-AC92-0F251DFFC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D27D3A-8E32-4A40-AA00-ACFA84776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B7C635-0789-4744-B673-FF67108A0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C46869-C88E-4D39-B2DB-1CD5D9957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4BDA-894C-445F-A4DC-70218B281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47AE30-07BC-4408-8DA9-D04AA84FC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066361-7915-44B0-9788-0F82E9BAF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EEA3A0-C640-4EB4-9EE1-D45EEAD03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3BC589-5499-410A-8E5B-B14BC976F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AF73EA-4977-4D07-989A-9CDCB756A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79D0E2-A1C3-466A-B51B-A4C29399C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EE3B79-9C46-4FEC-9476-2DC82065C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748CA6-5E3D-44DF-B542-21E3222D1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E0E135-8F07-4AF7-951B-ACB84A580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F655F8-C1E7-440A-924B-8903B81C9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8E4C-CF07-47CF-B74E-250015E8E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582871-67BD-4139-8E3D-95AF88EB9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D76AC6-C2A9-434C-9D9F-1D583518F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ABCB7C-D41D-4314-84C6-3A4E6EC60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ED5D8C-A638-473C-A589-D238BE789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AC4246-CEF2-4254-B601-23ACF3530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4A8507-A1D4-49FF-8DEA-22D584A28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A0CF75-F00E-4587-A484-40C45DB11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A330D7-30A4-4DE3-B581-6A5AFF503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DB8382-2DE4-435F-AA2A-9575FBDC4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2A9E52-4413-4A14-A9AF-910056AD4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2278-3719-4096-AAFC-12B7139DE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F51569-2FCB-4BB2-904D-A943CA261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FC2C17-D438-46A5-8FDB-5693557B0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0BCBC6-E905-4834-A8B1-61C9C8712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21578C-6842-4B18-A8E3-E238E76F7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0D1A12-66A7-42F7-B70E-94E590418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72E52E-20B3-4DBB-A7E3-1A152842D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E1A11A-C3FA-4B63-BCD6-720927B24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9BCAE7-78C0-4659-9C61-671707F2E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89C8C8-A197-4759-946C-D72088307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8D3EA4-BB80-4EA6-B7CA-96FC812E2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BBF3-0747-4644-94AC-98CD4156C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F71A46-1705-4D10-AB1B-B820964D8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AF9E81-0C71-420D-84AF-FD9AD43A9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AA45DF-B23A-4E47-94E1-887FEA0C3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C2ADA2-3570-4314-85E3-FA368CBF6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9B5676-A5E1-4ADE-A70F-FC08ACC12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705923-6510-455C-8446-3BEDC0E8D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E234CC-772A-49D3-B308-0826DC5F8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D90E29-3D20-48CE-9431-DFA57CCE6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827465-D60D-4801-B188-513B48330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25BAD5-2484-494C-9C99-5627FFDF8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5608-82E4-4ED4-8970-CA43371BC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A0E2D2-1A5E-49B8-B270-E6DEB6D5E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EED5B9-9184-4E94-BC4A-10B000B7A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E16C83-A2E4-46E9-85C6-7C35A0BEA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B2D5E9-33D2-4BF8-BCF9-6F01A1859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31CB86-8701-4FDD-8888-6C8D43BF0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33933F-993E-4A9D-891B-8A4284481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220299-7716-4560-AFF9-B5F7CBFB5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FEBEE0-F093-4C3C-ABA8-9E3D57CB3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80D7DC-965F-42F7-B857-EBFC5AFDB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798800-397C-45C3-8AC4-E3761A8B6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BA95-A6C0-439A-BDB7-733A5D7C6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E87039-F8CA-4CF2-889E-05BBFFDD8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76C6B0-60AC-4642-9183-7A76A8B2E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F33160-0AFA-4D21-A8DD-7DC2E3679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0F9D4B-4862-40EA-9D62-555A4ADFA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D2200F-20F9-4384-9FAF-CB4F97568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65CA-480F-4C4C-AC3A-7DFD40E7E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24365-DF4A-433B-B9B2-4F118F9F073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>
            <a:hlinkClick r:id="" action="ppaction://hlinkshowjump?jump=previousslide"/>
          </p:cNvPr>
          <p:cNvSpPr/>
          <p:nvPr/>
        </p:nvSpPr>
        <p:spPr>
          <a:xfrm>
            <a:off x="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3794" y="12601"/>
                </a:moveTo>
                <a:lnTo>
                  <a:pt x="17806" y="5595"/>
                </a:lnTo>
                <a:lnTo>
                  <a:pt x="17806" y="19608"/>
                </a:lnTo>
                <a:close/>
              </a:path>
            </a:pathLst>
          </a:custGeom>
          <a:gradFill rotWithShape="0">
            <a:gsLst>
              <a:gs pos="0">
                <a:srgbClr val="465e75"/>
              </a:gs>
              <a:gs pos="100000">
                <a:srgbClr val="99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4572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>
            <a:hlinkClick r:id="" action="ppaction://hlinkshowjump?jump=nextslide"/>
          </p:cNvPr>
          <p:cNvSpPr/>
          <p:nvPr/>
        </p:nvSpPr>
        <p:spPr>
          <a:xfrm>
            <a:off x="914400" y="63244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gradFill rotWithShape="0">
            <a:gsLst>
              <a:gs pos="0">
                <a:srgbClr val="465e75"/>
              </a:gs>
              <a:gs pos="100000">
                <a:srgbClr val="99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9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4DEC7-39C7-4E0F-B625-D9F204AB419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2D3D8-1F16-4CE1-AA0A-05BE2C2CCC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>
            <a:hlinkClick r:id="" action="ppaction://hlinkshowjump?jump=nextslide"/>
          </p:cNvPr>
          <p:cNvSpPr/>
          <p:nvPr/>
        </p:nvSpPr>
        <p:spPr>
          <a:xfrm>
            <a:off x="914400" y="63244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5A2BB-639E-4213-ACE0-F50FB8367F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71140-92D0-4A2C-ABEA-C3AB1E5735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4DB3C-B3AC-4178-88FE-FA20C344F2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E5114-8107-4F33-B6FE-C21A8284DD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omic Sans MS"/>
              </a:rPr>
              <a:t>THE SISTERS OF MARY SCHOOL-BOYSTOW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Forte"/>
              </a:rPr>
              <a:t>Mr. Joevanie B. Eliod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Forte"/>
              </a:rPr>
              <a:t>VI-A Comprehensive, Room 35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Forte"/>
              </a:rPr>
              <a:t>October 13,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>
            <a:hlinkClick r:id="" action="ppaction://hlinkshowjump?jump=previousslide"/>
          </p:cNvPr>
          <p:cNvSpPr/>
          <p:nvPr/>
        </p:nvSpPr>
        <p:spPr>
          <a:xfrm>
            <a:off x="0" y="63244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>
            <a:hlinkClick r:id="" action="ppaction://hlinkshowjump?jump=nextslide"/>
          </p:cNvPr>
          <p:cNvSpPr/>
          <p:nvPr/>
        </p:nvSpPr>
        <p:spPr>
          <a:xfrm>
            <a:off x="533520" y="6324480"/>
            <a:ext cx="533160" cy="53352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  <a:path fill="darken" w="21600" h="21615">
                <a:moveTo>
                  <a:pt x="3794" y="3801"/>
                </a:moveTo>
                <a:lnTo>
                  <a:pt x="17806" y="10807"/>
                </a:lnTo>
                <a:lnTo>
                  <a:pt x="3794" y="17814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6248520" y="3962520"/>
            <a:ext cx="27432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ubjects(2011-2012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6666"/>
                </a:solidFill>
                <a:uFillTx/>
                <a:latin typeface="Bradley Hand ITC"/>
                <a:hlinkClick r:id="rId1" action="ppaction://hlinksldjump"/>
              </a:rPr>
              <a:t>Mathema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6666"/>
                </a:solidFill>
                <a:uFillTx/>
                <a:latin typeface="Bradley Hand ITC"/>
                <a:hlinkClick r:id="rId2" action="ppaction://hlinksldjump"/>
              </a:rPr>
              <a:t>Englis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Bradley Hand ITC"/>
              </a:rPr>
              <a:t>Phys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Bradley Hand ITC"/>
              </a:rPr>
              <a:t>Filipi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Bradley Hand ITC"/>
              </a:rPr>
              <a:t>Makabay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3"/>
          <a:stretch/>
        </p:blipFill>
        <p:spPr>
          <a:xfrm>
            <a:off x="6019920" y="1371600"/>
            <a:ext cx="2333520" cy="114300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4"/>
          <a:stretch/>
        </p:blipFill>
        <p:spPr>
          <a:xfrm>
            <a:off x="6019920" y="2666880"/>
            <a:ext cx="2419200" cy="18957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5"/>
          <a:stretch/>
        </p:blipFill>
        <p:spPr>
          <a:xfrm>
            <a:off x="2971800" y="2209680"/>
            <a:ext cx="2581200" cy="177192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6"/>
          <a:stretch/>
        </p:blipFill>
        <p:spPr>
          <a:xfrm>
            <a:off x="4495680" y="4495680"/>
            <a:ext cx="2438640" cy="160020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7"/>
          <a:stretch/>
        </p:blipFill>
        <p:spPr>
          <a:xfrm>
            <a:off x="762120" y="4343400"/>
            <a:ext cx="289548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athematic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3657600" cy="480060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2"/>
          <a:stretch/>
        </p:blipFill>
        <p:spPr>
          <a:xfrm>
            <a:off x="4114800" y="1371600"/>
            <a:ext cx="4495680" cy="4876920"/>
          </a:xfrm>
          <a:prstGeom prst="rect">
            <a:avLst/>
          </a:prstGeom>
          <a:ln w="0">
            <a:noFill/>
          </a:ln>
        </p:spPr>
      </p:pic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ff"/>
                </a:solidFill>
                <a:uFillTx/>
                <a:latin typeface="Arial"/>
              </a:rPr>
              <a:t>Trigonome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w of si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w of cos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dent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ff"/>
                </a:solidFill>
                <a:uFillTx/>
                <a:latin typeface="Arial"/>
              </a:rPr>
              <a:t>Stat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edian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English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2362320" cy="472428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2"/>
          <a:stretch/>
        </p:blipFill>
        <p:spPr>
          <a:xfrm>
            <a:off x="3048120" y="1371600"/>
            <a:ext cx="2743200" cy="480060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3"/>
          <a:stretch/>
        </p:blipFill>
        <p:spPr>
          <a:xfrm>
            <a:off x="5638680" y="1371600"/>
            <a:ext cx="2971800" cy="4800600"/>
          </a:xfrm>
          <a:prstGeom prst="rect">
            <a:avLst/>
          </a:prstGeom>
          <a:ln w="0">
            <a:noFill/>
          </a:ln>
        </p:spPr>
      </p:pic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Oral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iter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o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hort s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No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e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hysics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001000" cy="4495680"/>
          </a:xfrm>
          <a:prstGeom prst="rect">
            <a:avLst/>
          </a:prstGeom>
          <a:ln w="0">
            <a:noFill/>
          </a:ln>
        </p:spPr>
      </p:pic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Kinema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ynam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hermodynam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uclear Phys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5791320" y="1371600"/>
            <a:ext cx="2895480" cy="4876920"/>
          </a:xfrm>
          <a:prstGeom prst="rect">
            <a:avLst/>
          </a:prstGeom>
          <a:ln w="0">
            <a:noFill/>
          </a:ln>
        </p:spPr>
      </p:pic>
      <p:pic>
        <p:nvPicPr>
          <p:cNvPr id="325" name="" descr=""/>
          <p:cNvPicPr/>
          <p:nvPr/>
        </p:nvPicPr>
        <p:blipFill>
          <a:blip r:embed="rId2"/>
          <a:stretch/>
        </p:blipFill>
        <p:spPr>
          <a:xfrm>
            <a:off x="3048120" y="1371600"/>
            <a:ext cx="2743200" cy="480060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3"/>
          <a:stretch/>
        </p:blipFill>
        <p:spPr>
          <a:xfrm>
            <a:off x="380880" y="1371600"/>
            <a:ext cx="3048120" cy="4800600"/>
          </a:xfrm>
          <a:prstGeom prst="rect">
            <a:avLst/>
          </a:prstGeom>
          <a:ln w="0">
            <a:noFill/>
          </a:ln>
        </p:spPr>
      </p:pic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Filipino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ff"/>
                </a:solidFill>
                <a:uFillTx/>
                <a:latin typeface="Arial"/>
              </a:rPr>
              <a:t>Tayut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ff"/>
                </a:solidFill>
                <a:uFillTx/>
                <a:latin typeface="Arial"/>
              </a:rPr>
              <a:t>Panitik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ikling kw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Nobe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ff"/>
                </a:solidFill>
                <a:uFillTx/>
                <a:latin typeface="Arial"/>
              </a:rPr>
              <a:t>El filibusterismo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4952880" y="3352680"/>
            <a:ext cx="3667320" cy="2743200"/>
          </a:xfrm>
          <a:prstGeom prst="rect">
            <a:avLst/>
          </a:prstGeom>
          <a:ln w="0">
            <a:noFill/>
          </a:ln>
        </p:spPr>
      </p:pic>
      <p:pic>
        <p:nvPicPr>
          <p:cNvPr id="330" name="" descr=""/>
          <p:cNvPicPr/>
          <p:nvPr/>
        </p:nvPicPr>
        <p:blipFill>
          <a:blip r:embed="rId2"/>
          <a:stretch/>
        </p:blipFill>
        <p:spPr>
          <a:xfrm>
            <a:off x="5562720" y="1371600"/>
            <a:ext cx="3009960" cy="2038320"/>
          </a:xfrm>
          <a:prstGeom prst="rect">
            <a:avLst/>
          </a:prstGeom>
          <a:ln w="0">
            <a:noFill/>
          </a:ln>
        </p:spPr>
      </p:pic>
      <p:pic>
        <p:nvPicPr>
          <p:cNvPr id="331" name="" descr=""/>
          <p:cNvPicPr/>
          <p:nvPr/>
        </p:nvPicPr>
        <p:blipFill>
          <a:blip r:embed="rId3"/>
          <a:stretch/>
        </p:blipFill>
        <p:spPr>
          <a:xfrm>
            <a:off x="3557520" y="1523880"/>
            <a:ext cx="2028960" cy="464832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4"/>
          <a:stretch/>
        </p:blipFill>
        <p:spPr>
          <a:xfrm>
            <a:off x="457200" y="3352680"/>
            <a:ext cx="2467080" cy="281952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5"/>
          <a:stretch/>
        </p:blipFill>
        <p:spPr>
          <a:xfrm>
            <a:off x="457200" y="1371600"/>
            <a:ext cx="3114720" cy="1828800"/>
          </a:xfrm>
          <a:prstGeom prst="rect">
            <a:avLst/>
          </a:prstGeom>
          <a:ln w="0">
            <a:noFill/>
          </a:ln>
        </p:spPr>
      </p:pic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akabayan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ff"/>
                </a:solidFill>
                <a:uFillTx/>
                <a:latin typeface="Arial"/>
              </a:rPr>
              <a:t>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ff"/>
                </a:solidFill>
                <a:uFillTx/>
                <a:latin typeface="Arial"/>
              </a:rPr>
              <a:t>Physical edu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ff"/>
                </a:solidFill>
                <a:uFillTx/>
                <a:latin typeface="Arial"/>
              </a:rPr>
              <a:t>Health and Family Pl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ff"/>
                </a:solidFill>
                <a:uFillTx/>
                <a:latin typeface="Arial"/>
              </a:rPr>
              <a:t>Musi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ff"/>
                </a:solidFill>
                <a:uFillTx/>
                <a:latin typeface="Arial"/>
              </a:rPr>
              <a:t>Ar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8T18:05:00Z</dcterms:created>
  <dc:creator>DSME</dc:creator>
  <dc:description/>
  <dc:language>en-US</dc:language>
  <cp:lastModifiedBy>DSME</cp:lastModifiedBy>
  <dcterms:modified xsi:type="dcterms:W3CDTF">2011-07-29T09:49:37Z</dcterms:modified>
  <cp:revision>3</cp:revision>
  <dc:subject/>
  <dc:title>THE SISTERS OF MARY SCHOOL-BOYSTOWN</dc:title>
</cp:coreProperties>
</file>